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D70-39DF-4832-888E-99779E63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ED2-0E7B-46EF-B43B-4C6C361F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40F-1646-43CB-8147-CFF4AA29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EA4-3218-43C3-828D-82412276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AFEA-4207-4BE4-A605-2832871D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3E67-A7C9-468C-B7A8-25B95F14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D257-2573-4296-99E8-A429FDD2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25F5-CF4F-445E-AE50-DF9FB453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4730-422F-4D9B-9E25-D57CBF2A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3556-D9A0-4D4F-B2E3-343A9078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8F7D-F5A5-466D-8A11-F746867B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3FF-19EC-4B5E-870C-947C64C0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8F2C-D126-4022-A5E2-0F658F72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0F99-DB03-4081-A648-6357D4F5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0610-1511-4013-8080-96E5399A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3A72-B9F9-421B-A099-4A220280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16E4-49A1-4020-B24F-13F235BC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FB3-514A-47E6-A7AA-07501FB1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B12-6545-4A94-829E-FF114C07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8BB-47C9-4F07-8767-6094E860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437-22A7-4C40-9DAC-73923455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CED-0171-4718-B015-E4C83623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123-4C83-4700-8EB6-3570FB3B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8A4-ECB2-47E1-BBD4-E1AC80FC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1302-3409-4570-8F4F-AACBA96D8B2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2EFA-C9B6-44BF-AE64-7E71BEB8790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7 IL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d. 3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GLUE THIS HANDOUT TO YOUR NOTEBOO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COMPLETE THIS WORK FROM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COMO TE VA?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TEXTBOOK COP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MAKE SURE THAT YOU COMPLETE ALL THE WORK IN YOUR NOTEBOO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MAKE SURE YOU DO YOUR HOMEWORK; IT IS IN YOUR WORKBOO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78840"/>
            <a:ext cx="88394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c85e"/>
                </a:solidFill>
                <a:latin typeface="Arial"/>
              </a:rPr>
              <a:t>Me llamo ______ Clase 7 IL</a:t>
            </a:r>
            <a:br>
              <a:rPr sz="4000"/>
            </a:br>
            <a:r>
              <a:rPr b="0" lang="en-US" sz="4000" spc="-1" strike="noStrike">
                <a:solidFill>
                  <a:srgbClr val="eec85e"/>
                </a:solidFill>
                <a:latin typeface="Arial"/>
              </a:rPr>
              <a:t>La fecha es el 24 de enero del 2013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ropósito # 45: 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¿Qué haces en el aeropuerto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opia y completa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Verdana"/>
              </a:rPr>
              <a:t>Ejercicio 2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 p. 82</a:t>
            </a: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l nombre de la línea área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_______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l numero del vuelo   __________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l destino del vuelo   __________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l aeropuerto de salida  _________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La hora de embarque __________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La fecha del vuelo, el día que sa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__________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pia y completa </a:t>
            </a:r>
            <a:r>
              <a:rPr b="0" lang="es-ES_tradnl" sz="3200" spc="-1" strike="noStrike" u="sng">
                <a:solidFill>
                  <a:srgbClr val="eaeaea"/>
                </a:solidFill>
                <a:uFillTx/>
                <a:latin typeface="Verdana"/>
              </a:rPr>
              <a:t>Juego 3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 p. 83 (1-5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n un compañero, completa </a:t>
            </a:r>
            <a:r>
              <a:rPr b="0" lang="es-ES_tradnl" sz="3200" spc="-1" strike="noStrike" u="sng">
                <a:solidFill>
                  <a:srgbClr val="eaeaea"/>
                </a:solidFill>
                <a:uFillTx/>
                <a:latin typeface="Verdana"/>
              </a:rPr>
              <a:t>Ejercicio 4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 p. 83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(Make sure that you WRITE what you see, give the family a name, give people name etc. Make sure that you use the vocabulary that we learned yesterday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KBOOK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pleta p. 3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8:26:03Z</dcterms:created>
  <dc:creator>Helen Zumaeta</dc:creator>
  <dc:description/>
  <dc:language>en-US</dc:language>
  <cp:lastModifiedBy>Helen Zumaeta</cp:lastModifiedBy>
  <dcterms:modified xsi:type="dcterms:W3CDTF">2013-01-23T20:29:28Z</dcterms:modified>
  <cp:revision>4</cp:revision>
  <dc:subject/>
  <dc:title>Me llamo ______ Clase 7 IM La fecha es el 13 de octubre del 2011</dc:title>
</cp:coreProperties>
</file>